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8E3BE-FD71-43CD-B6EE-E5F4109894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160D7-1AE6-42C8-8950-20C9EA2C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73C2D-2C7C-4709-9DCD-1B52C83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A703-CA5A-4687-B868-59BB4A25B1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1B5F-B2C4-4F32-9241-CA90B20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D6D6-0F8B-4AAD-94CF-D72D3734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35AE-A956-4A4F-9E8A-1D720F98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FEDA-178D-418B-AC89-564DCAC7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BCB7A-2AFF-49B8-A3E1-A97DE435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2671-BC2C-40FF-BABB-EA1A9627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BC00-E55D-4879-9F22-37F12AC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F155-DD19-4ACF-A44B-A71FDF6A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3B9A-6745-4D5B-8A6B-3731F47788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十四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开放性气胸，紧急封闭胸腔伤口后行胸膜腔闭式引流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受损  与疼痛、胸部损伤、胸廓活动受限或肺萎陷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组织灌注量改变  与失血引起的血容量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 与组织损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恐惧  与突然、强烈的意外创伤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肺部感染、胸腔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呼吸型态、频率、呼吸音变化和有无反常呼吸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根据病情给予鼻导管或面罩吸氧，观察血氧饱和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因胸部伤口疼痛影响呼吸者，按医嘱予以镇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稳定者取半坐卧位，以使膈肌下降，有利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气管插管或切开、应用呼吸机辅助呼吸者，加强呼吸道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、保持管道密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时观察、保持引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无菌操作，防止逆行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拔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安全，防止发生意外事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理休息，加强营养素的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患者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后应复查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，以了解骨折愈合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进行呼吸功能锻炼、肩关节功能锻炼。气胸痊愈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内，不宜参加跑步、搬运重物等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暴力直接或间接作用于肋骨，使肋骨的完整性和连续性中断，是最常见的胸部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折局部疼痛，咳嗽、深呼吸或变动体位时疼痛加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受伤胸壁肿胀，局部压痛明显，可伴畸形和骨擦音，胸廓挤压征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根多处肋骨骨折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反常呼吸运动、连枷胸、纵隔扑动、闭合性气胸、开放性气胸、张力性气胸、血胸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说出常见胸部损伤的类型、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胸腔闭式引流的护理措施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气胸、血胸的病理生理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区别闭合性气胸、开放性气胸、张力性气胸的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效镇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呼吸道分泌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单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多根多处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骨折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胸膜腔内积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随胸膜腔积气量和肺萎陷程度而不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患侧胸廓饱满、肋间隙增宽、呼吸幅度降低。②触诊：气管向健侧移位。③叩诊：呈鼓音。④听诊：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出现呼吸系统和循环系统严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可看到胸部吸吮伤口。②触诊：气管、心脏明显向健侧移位。③叩诊：伤侧胸部呈鼓音。④听诊：患者呼吸时可直接听到气体进出的嘶嘶声，呼吸音减弱或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：患者有极度呼吸困难、发绀、烦躁不安、大汗淋漓、昏迷、休克，甚至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：①视诊：伤侧胸部饱满、肋间隙增宽、呼吸幅度明显降低。②触诊：皮下捻发音、气管向健侧移位，可有严重皮下气肿。③叩诊：呈鼓音。④听诊：伤侧呼吸音消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采用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量缓慢积气不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紧急封闭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创、缝合胸壁伤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及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的临床表现与出血量、速度和个人体质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而言，成人小量血胸出血量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量血胸出血量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大量血胸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脉搏逐渐增快、血压持续下降，血红蛋白、红细胞计数和血细胞比容进行性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补液后，血压不回升或升高后又迅速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血量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每小时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0m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因血凝固抽不出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高热、寒战、疲乏、出汗等全身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抽出胸腔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加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蒸馏水，出现混浊或絮状物提示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腔积血白细胞计数明显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血涂片和细菌培养发现致病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抽不出（或抽出少量血液）或胸膜腔闭式引流量减少，而内出血症状、体征和影像学检查提示血胸持续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进行性血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可自行吸收，不必穿刺抽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膜腔穿刺或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足量血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半小时前被刀刺伤右前胸，急诊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3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68/43 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患者呼吸困难，气促，口唇发绀。右前胸部有一伤口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 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可闻及空气出入响声。右侧胸叩诊鼓音，听诊呼吸音消失，气管及心尖搏动明显左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右肺萎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右侧肋膈角消失，右侧胸膜腔大量积气，气管、心脏等纵隔器官向左侧移位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胸膜腔引流，排尽感染性积血积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效果不佳，应尽早手术清除感染性积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剖胸清除积血和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已感染的血胸按脓胸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和护理措施参见本章第一节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损伤多由于暴力挤压、冲撞、跌倒、坠落、钝器打击、锐器伤或枪弹伤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表现为对呼吸、循环功能的影响。患者可出现胸痛、呼吸困难、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、休克等症状，出现胸廓畸形、反常呼吸运动、皮下气肿、局部压痛、骨擦音和气管、心脏移位等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主要是抢救生命，保持呼吸道通畅，抗休克，镇静止痛，恢复胸膜腔内负压。院内急救主要是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危及生命情况，协助医师做好现场急救，注意维持气体交换，改善组织灌注等。术后重点观察有无活动性出血，预防感染，做好胸膜腔闭式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系外来暴力所致，少数病例可出现于恶性肿瘤发生肋骨转移者或严重骨质疏松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骨折局部疼痛，不同程度的呼吸困难、循环障碍及低氧血症表现。多根多处肋骨骨折者可出现反常呼吸运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镇痛、清理呼吸道分泌物、固定胸廓和防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肺组织、支气管、食管破裂导致，或胸壁伤口穿破胸膜，胸膜腔与外界沟通，空气进入所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时，中、大量气胸者可出现胸闷、胸痛、气促和呼吸困难等症状。开放性气胸时，可出现呼吸系统和循环系统严重症状，听诊时可直接听到气体进出声。张力性气胸时，患者有极度呼吸困难、发绀、休克甚至窒息等表现，患侧胸膜腔穿刺有高压气体向外冲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气胸可不处理，或行胸膜腔穿刺或闭式引流术。开放性气胸时首先将其变为闭合性气胸，然后抽气减压、清创缝合，必要时剖胸探查。张力性气胸者应立即排气减压，然后行胸膜腔闭式引流或剖胸探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可由利器损伤胸部或肋骨断端刺破肺、心脏和大血管或胸壁血管引起，也有少数在咳嗽、运动、负重等时自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与出血量、速度和个人体质有关。患者会出现不同程度的低血容量性休克表现和呼吸困难，伴或不伴咳嗽、胸痛。还可出现进行性血胸、感染性血胸或凝固性血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咯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严重程度决定。可无特殊处理，或行胸膜腔穿刺或胸膜腔闭式引流，严重者手术。进行性血胸者还应防治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参见本章第一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部位、受伤时间和经过、暴力大小和方向、开放性或闭合性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肋骨骨折、肺损伤、心脏损伤、血管损伤或其他部位合并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既往疾病史、胸部手术史、药物过敏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前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抢救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、抗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止痛、镇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胸廓完整性，恢复胸膜腔内负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院内急救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实施急诊开胸探查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9:17:39Z</dcterms:modified>
  <cp:revision>96</cp:revision>
  <dc:subject/>
  <dc:title>内科护理学</dc:title>
</cp:coreProperties>
</file>